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C9EE-FE6C-4EA6-BE8F-408EC797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D979-036C-425F-985A-6D691A80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593F-B655-4E18-8115-EC86F7F5D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4C0D-A5B4-443A-BDBE-B2AF65167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EFE7-A569-4B4B-A374-A5D77DA7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7067-6DA9-40EF-BD6C-BC4C4AB3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E468-0BC7-4767-B0C8-0895D4BD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C3BD-ABD4-478C-BDC7-1A660D15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5AA8-9B3D-4D1C-A690-AEE6C1E0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9588-6BC6-4669-A107-67EC95CD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D5CE-E29E-46CD-BAE2-D743ECB1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E6D6-6CF9-467B-B5C8-8B9BBAC7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EC44-3261-402A-9FF6-BA5781B52795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0243-F663-4EFD-BE76-6699E94D910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bandomoviez.net/db/pelicula.php?film=5822" TargetMode="External"/><Relationship Id="rId2" Type="http://schemas.openxmlformats.org/officeDocument/2006/relationships/hyperlink" Target="http://www.sean-connery.net/pelis/marni/index2.htm" TargetMode="External"/><Relationship Id="rId3" Type="http://schemas.openxmlformats.org/officeDocument/2006/relationships/hyperlink" Target="http://www.decine21.com/peliculas/la-estrategia-de-la-arana-3918" TargetMode="External"/><Relationship Id="rId4" Type="http://schemas.openxmlformats.org/officeDocument/2006/relationships/hyperlink" Target="http://es.movies.yahoo.com/l/la-insoportable-levedad-del-ser/index-19944.html" TargetMode="External"/><Relationship Id="rId5" Type="http://schemas.openxmlformats.org/officeDocument/2006/relationships/hyperlink" Target="mailto:http://www.cinefantastico.com/film.php?id=252" TargetMode="External"/><Relationship Id="rId6" Type="http://schemas.openxmlformats.org/officeDocument/2006/relationships/hyperlink" Target="http://www.cinefantastico.com/film.php?id=252" TargetMode="External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dipo Rey de Sófoc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Referente Cinematográf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Poderosa Afrodita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CB45-71C9-4078-91BB-0E475A978DDD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Inic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5 CuadroTexto"/>
          <p:cNvSpPr/>
          <p:nvPr/>
        </p:nvSpPr>
        <p:spPr>
          <a:xfrm>
            <a:off x="1285920" y="1595520"/>
            <a:ext cx="6858000" cy="53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ff"/>
                </a:solidFill>
                <a:uFillTx/>
                <a:latin typeface="Palatino Linotype"/>
                <a:hlinkClick r:id="rId1" action="ppaction://hlinksldjump"/>
              </a:rPr>
              <a:t>• </a:t>
            </a:r>
            <a:r>
              <a:rPr b="0" lang="es-ES" sz="2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El motivo que provoca la investig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ff"/>
                </a:solidFill>
                <a:uFillTx/>
                <a:latin typeface="Palatino Linotype"/>
                <a:hlinkClick r:id="rId3" action="ppaction://hlinksldjump"/>
              </a:rPr>
              <a:t>• </a:t>
            </a:r>
            <a:r>
              <a:rPr b="0" lang="es-ES" sz="2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Indicios de estar implicado en la investig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ff"/>
                </a:solidFill>
                <a:uFillTx/>
                <a:latin typeface="Palatino Linotype"/>
                <a:hlinkClick r:id="rId5" action="ppaction://hlinksldjump"/>
              </a:rPr>
              <a:t>•</a:t>
            </a:r>
            <a:r>
              <a:rPr b="0" lang="es-ES" sz="24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 Resultado de la investig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• Poderosa Afrodi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•Otras películas referentes a Edipo r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2891-B1D3-45D8-B474-889BD7FDCA8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Motivo que provoca la investiga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16 Flecha curvada hacia arriba">
            <a:hlinkClick r:id="rId1" action="ppaction://hlinksldjump"/>
          </p:cNvPr>
          <p:cNvSpPr/>
          <p:nvPr/>
        </p:nvSpPr>
        <p:spPr>
          <a:xfrm>
            <a:off x="8501040" y="6000840"/>
            <a:ext cx="357120" cy="428400"/>
          </a:xfrm>
          <a:custGeom>
            <a:avLst/>
            <a:gdLst>
              <a:gd name="textAreaLeft" fmla="*/ 55800 w 357120"/>
              <a:gd name="textAreaRight" fmla="*/ 256680 w 357120"/>
              <a:gd name="textAreaTop" fmla="*/ 57240 h 428400"/>
              <a:gd name="textAreaBottom" fmla="*/ 3711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3343246"/>
                <a:lnTo>
                  <a:pt x="21452" y="4500"/>
                </a:lnTo>
                <a:lnTo>
                  <a:pt x="16200" y="0"/>
                </a:lnTo>
                <a:lnTo>
                  <a:pt x="10652" y="4500"/>
                </a:lnTo>
                <a:lnTo>
                  <a:pt x="13352" y="4500"/>
                </a:lnTo>
                <a:arcTo wR="6750" hR="21600" stAng="2056754" swAng="2877260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http://www.ellitoral.com/diarios/2009/07/15/escenariosysociedad/SOCI-04-web-images/3_opt.jpeg"/>
          <p:cNvPicPr/>
          <p:nvPr/>
        </p:nvPicPr>
        <p:blipFill>
          <a:blip r:embed="rId2"/>
          <a:stretch/>
        </p:blipFill>
        <p:spPr>
          <a:xfrm>
            <a:off x="5143680" y="1857240"/>
            <a:ext cx="3455640" cy="2357640"/>
          </a:xfrm>
          <a:prstGeom prst="rect">
            <a:avLst/>
          </a:prstGeom>
          <a:ln w="0">
            <a:noFill/>
          </a:ln>
        </p:spPr>
      </p:pic>
      <p:sp>
        <p:nvSpPr>
          <p:cNvPr id="50" name="4 CuadroTexto"/>
          <p:cNvSpPr/>
          <p:nvPr/>
        </p:nvSpPr>
        <p:spPr>
          <a:xfrm>
            <a:off x="857160" y="2286000"/>
            <a:ext cx="40006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l igual que en Edipo rey, en la película Poderosa  Afrodita  podemos visualizar como su protagonista  Woody Allen pretende encontrar a la madre de su hijo adop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mbos niños fueron de alguna manera abandonados y aunque en Poderosa Afrodita es dado en adopción, al hacerse más grande ninguno de los dos niños sabe su verdadera exist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Chaudet Antoine Denis - Phorbas Bringing Oedipus Back to Life 1802-18 (marble)"/>
          <p:cNvPicPr/>
          <p:nvPr/>
        </p:nvPicPr>
        <p:blipFill>
          <a:blip r:embed="rId3"/>
          <a:stretch/>
        </p:blipFill>
        <p:spPr>
          <a:xfrm>
            <a:off x="5429160" y="4349880"/>
            <a:ext cx="1714680" cy="2290680"/>
          </a:xfrm>
          <a:prstGeom prst="rect">
            <a:avLst/>
          </a:prstGeom>
          <a:ln w="0">
            <a:noFill/>
          </a:ln>
        </p:spPr>
      </p:pic>
      <p:sp>
        <p:nvSpPr>
          <p:cNvPr id="52" name="6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31ED-8E4D-4A7F-B860-0ACDBBA4527C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Indicios de estar implicado en la investiga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4 Flecha curvada hacia arriba">
            <a:hlinkClick r:id="rId1" action="ppaction://hlinksldjump"/>
          </p:cNvPr>
          <p:cNvSpPr/>
          <p:nvPr/>
        </p:nvSpPr>
        <p:spPr>
          <a:xfrm>
            <a:off x="8572680" y="6000840"/>
            <a:ext cx="357120" cy="500040"/>
          </a:xfrm>
          <a:custGeom>
            <a:avLst/>
            <a:gdLst>
              <a:gd name="textAreaLeft" fmla="*/ 55800 w 357120"/>
              <a:gd name="textAreaRight" fmla="*/ 256680 w 35712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3591271"/>
                <a:lnTo>
                  <a:pt x="21492" y="3857"/>
                </a:lnTo>
                <a:lnTo>
                  <a:pt x="16200" y="0"/>
                </a:lnTo>
                <a:lnTo>
                  <a:pt x="10692" y="3857"/>
                </a:lnTo>
                <a:lnTo>
                  <a:pt x="13392" y="3857"/>
                </a:lnTo>
                <a:arcTo wR="6750" hR="21600" stAng="1808729" swAng="3125284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[Edipo-Ingres.jpg]"/>
          <p:cNvPicPr/>
          <p:nvPr/>
        </p:nvPicPr>
        <p:blipFill>
          <a:blip r:embed="rId2"/>
          <a:stretch/>
        </p:blipFill>
        <p:spPr>
          <a:xfrm>
            <a:off x="6929280" y="3714840"/>
            <a:ext cx="1629000" cy="2163600"/>
          </a:xfrm>
          <a:prstGeom prst="rect">
            <a:avLst/>
          </a:prstGeom>
          <a:ln w="0">
            <a:noFill/>
          </a:ln>
        </p:spPr>
      </p:pic>
      <p:sp>
        <p:nvSpPr>
          <p:cNvPr id="56" name="6 CuadroTexto"/>
          <p:cNvSpPr/>
          <p:nvPr/>
        </p:nvSpPr>
        <p:spPr>
          <a:xfrm>
            <a:off x="3000240" y="1643040"/>
            <a:ext cx="3500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unque su referente argumental en el cine sea Poderosa Afrodita, ésta no presenta los indicios de estar implicado en la investigación, ya que su autor y director ha querido darle un giro a la trama y así dejar un final abierto a la imaginación del espect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n Edipo, su protagonista se ve envuelta sin desearlo en su propia búsqueda del asesino de Lay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http://www.fflch.usp.br/dh/heros/personas/grecia/mitica/edipo/ensaios/PesteTebasJalabeatCgfajalabeat1.jpg"/>
          <p:cNvPicPr/>
          <p:nvPr/>
        </p:nvPicPr>
        <p:blipFill>
          <a:blip r:embed="rId3"/>
          <a:stretch/>
        </p:blipFill>
        <p:spPr>
          <a:xfrm>
            <a:off x="428760" y="1500120"/>
            <a:ext cx="2381040" cy="4781520"/>
          </a:xfrm>
          <a:prstGeom prst="rect">
            <a:avLst/>
          </a:prstGeom>
          <a:ln w="0">
            <a:noFill/>
          </a:ln>
        </p:spPr>
      </p:pic>
      <p:sp>
        <p:nvSpPr>
          <p:cNvPr id="58" name="8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F6BC-597C-474F-A5A3-BB2CDD0623D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Resultado final de la investig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10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0CE8-F891-4F62-BCEA-0C1FC6F3A99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4 Flecha curvada hacia arriba">
            <a:hlinkClick r:id="rId1" action="ppaction://hlinksldjump"/>
          </p:cNvPr>
          <p:cNvSpPr/>
          <p:nvPr/>
        </p:nvSpPr>
        <p:spPr>
          <a:xfrm>
            <a:off x="8572680" y="5857920"/>
            <a:ext cx="357120" cy="500040"/>
          </a:xfrm>
          <a:custGeom>
            <a:avLst/>
            <a:gdLst>
              <a:gd name="textAreaLeft" fmla="*/ 55800 w 357120"/>
              <a:gd name="textAreaRight" fmla="*/ 256680 w 35712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3591271"/>
                <a:lnTo>
                  <a:pt x="21492" y="3857"/>
                </a:lnTo>
                <a:lnTo>
                  <a:pt x="16200" y="0"/>
                </a:lnTo>
                <a:lnTo>
                  <a:pt x="10692" y="3857"/>
                </a:lnTo>
                <a:lnTo>
                  <a:pt x="13392" y="3857"/>
                </a:lnTo>
                <a:arcTo wR="6750" hR="21600" stAng="1808729" swAng="3125284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http://www.cineismo.com/criticas/afrodit3.jpg"/>
          <p:cNvPicPr/>
          <p:nvPr/>
        </p:nvPicPr>
        <p:blipFill>
          <a:blip r:embed="rId2"/>
          <a:stretch/>
        </p:blipFill>
        <p:spPr>
          <a:xfrm>
            <a:off x="6286680" y="1643040"/>
            <a:ext cx="2304720" cy="1619280"/>
          </a:xfrm>
          <a:prstGeom prst="rect">
            <a:avLst/>
          </a:prstGeom>
          <a:ln w="0">
            <a:noFill/>
          </a:ln>
        </p:spPr>
      </p:pic>
      <p:sp>
        <p:nvSpPr>
          <p:cNvPr id="63" name="7 CuadroTexto"/>
          <p:cNvSpPr/>
          <p:nvPr/>
        </p:nvSpPr>
        <p:spPr>
          <a:xfrm>
            <a:off x="3286080" y="171468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    Hacer clic encim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8 Flecha izquierda"/>
          <p:cNvSpPr/>
          <p:nvPr/>
        </p:nvSpPr>
        <p:spPr>
          <a:xfrm>
            <a:off x="3500280" y="1785960"/>
            <a:ext cx="214560" cy="214200"/>
          </a:xfrm>
          <a:prstGeom prst="leftArrow">
            <a:avLst>
              <a:gd name="adj1" fmla="val 50000"/>
              <a:gd name="adj2" fmla="val 50084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oderosa2(2).avi" descr=""/>
          <p:cNvPicPr/>
          <p:nvPr/>
        </p:nvPicPr>
        <p:blipFill>
          <a:blip r:embed="rId3"/>
          <a:stretch/>
        </p:blipFill>
        <p:spPr>
          <a:xfrm>
            <a:off x="1071720" y="1714680"/>
            <a:ext cx="2143080" cy="1753920"/>
          </a:xfrm>
          <a:prstGeom prst="rect">
            <a:avLst/>
          </a:prstGeom>
          <a:ln w="0">
            <a:noFill/>
          </a:ln>
        </p:spPr>
      </p:pic>
      <p:sp>
        <p:nvSpPr>
          <p:cNvPr id="66" name="18 CuadroTexto"/>
          <p:cNvSpPr/>
          <p:nvPr/>
        </p:nvSpPr>
        <p:spPr>
          <a:xfrm>
            <a:off x="1143000" y="3714840"/>
            <a:ext cx="6929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l darse cuenta del infortunio que ha provocado sin saberlo Edipo decide arrancarse los ojos, para así no poder nunca ver el fruto de su desgracia, sus hij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n Poderosa Afrodita, Lenny encuentra a la madre de su hijo adoptivo, que resulta ser una prostituta, el quiere ayudarla incitándola a que deje la prostitución, así finalmente ella deja su trabajo y consigue formar una familia con su marido, aunque lo que no cuenta a nadie es que la niña no es fruto de su marido, sino de Len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oderosa Afrodi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DC10-888F-4A6F-A702-72FCF15A564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5 CuadroTexto"/>
          <p:cNvSpPr/>
          <p:nvPr/>
        </p:nvSpPr>
        <p:spPr>
          <a:xfrm>
            <a:off x="1143000" y="1428840"/>
            <a:ext cx="57862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n poderosa Afrodita (1995) Woody Allen, cineasta de inspiración literaria, hace una nueva y genial lectura de Edipo Rey. Parte de la temática de la tragedia de Sófocles Edipo, rey para llegar a tratar el problema de las adopciones y los hijos biológic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Utiliza el canon griego de la tragedia (con el coro, el corifeo, deus ex machina y la intervención de los principales personajes trágicos: Casandra, Tiresias, etc.) pero en tono de comed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ste film mantiene la misma estructura que tenía la tragedia de Edipo rey gracias a la intervención desde el teatro de Taormina de un coro que canta las ironías que la vida depara a los hum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7 Flecha curvada hacia arriba">
            <a:hlinkClick r:id="rId1" action="ppaction://hlinksldjump"/>
          </p:cNvPr>
          <p:cNvSpPr/>
          <p:nvPr/>
        </p:nvSpPr>
        <p:spPr>
          <a:xfrm>
            <a:off x="8358120" y="5786280"/>
            <a:ext cx="285840" cy="428760"/>
          </a:xfrm>
          <a:custGeom>
            <a:avLst/>
            <a:gdLst>
              <a:gd name="textAreaLeft" fmla="*/ 44640 w 285840"/>
              <a:gd name="textAreaRight" fmla="*/ 205560 w 28584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3695466"/>
                <a:lnTo>
                  <a:pt x="21506" y="3600"/>
                </a:lnTo>
                <a:lnTo>
                  <a:pt x="16200" y="0"/>
                </a:lnTo>
                <a:lnTo>
                  <a:pt x="10706" y="3600"/>
                </a:lnTo>
                <a:lnTo>
                  <a:pt x="13406" y="3600"/>
                </a:lnTo>
                <a:arcTo wR="6750" hR="21600" stAng="1704534" swAng="3229480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Otras películas referentes a Edipo re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435B-81DF-4542-8034-05175B1E977E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8 CuadroTexto"/>
          <p:cNvSpPr/>
          <p:nvPr/>
        </p:nvSpPr>
        <p:spPr>
          <a:xfrm>
            <a:off x="1143000" y="1571760"/>
            <a:ext cx="664380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• Recuerda (194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•Marnie, la ladrona (196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•La estrategia de la araña (197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 •La insoportable levedad del ser (198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 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• Desafío total (19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•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a chica terrible (19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•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a caja de música ( 19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•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emento (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Palatino Linotype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10 CuadroTexto"/>
          <p:cNvSpPr/>
          <p:nvPr/>
        </p:nvSpPr>
        <p:spPr>
          <a:xfrm>
            <a:off x="2000160" y="6458040"/>
            <a:ext cx="650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ealizado por: Lorena Oliver Le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cartel"/>
          <p:cNvPicPr/>
          <p:nvPr/>
        </p:nvPicPr>
        <p:blipFill>
          <a:blip r:embed="rId7"/>
          <a:stretch/>
        </p:blipFill>
        <p:spPr>
          <a:xfrm>
            <a:off x="7000920" y="1357200"/>
            <a:ext cx="1428840" cy="1847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La insoportable levedad del ser"/>
          <p:cNvPicPr/>
          <p:nvPr/>
        </p:nvPicPr>
        <p:blipFill>
          <a:blip r:embed="rId8"/>
          <a:stretch/>
        </p:blipFill>
        <p:spPr>
          <a:xfrm>
            <a:off x="4929120" y="3857760"/>
            <a:ext cx="1505160" cy="2286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http://1.bp.blogspot.com/__kdloiikFIQ/Sp3b7N5lmtI/AAAAAAAAiok/IfUhXXOug44/s320/1945recuerda3vp0.jpg"/>
          <p:cNvPicPr/>
          <p:nvPr/>
        </p:nvPicPr>
        <p:blipFill>
          <a:blip r:embed="rId9"/>
          <a:stretch/>
        </p:blipFill>
        <p:spPr>
          <a:xfrm>
            <a:off x="7000920" y="3643200"/>
            <a:ext cx="1882800" cy="2619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17:39:14Z</dcterms:created>
  <dc:creator>L&amp;M</dc:creator>
  <dc:description/>
  <dc:language>en-US</dc:language>
  <cp:lastModifiedBy>L&amp;M</cp:lastModifiedBy>
  <dcterms:modified xsi:type="dcterms:W3CDTF">2010-05-17T19:13:39Z</dcterms:modified>
  <cp:revision>46</cp:revision>
  <dc:subject/>
  <dc:title>Edipo Rey de Sófocles</dc:title>
</cp:coreProperties>
</file>